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dt" idx="1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ftr" idx="1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 type="sldNum" idx="1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9BAD-462F-4E2A-9651-1955A048505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5FB4-68AA-41C0-AA9A-90508F96369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6606-21BE-49DC-83F1-E9C2A1FB409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41EF-0B13-48F7-8A04-3E3E7B854F1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P. W Anglii przy powitaniu nie jest dobrze widziane wpadanie sobie w ramiona, w Japonii natomiast – podawanie ręki, w krajach arabskich – patrzenie w oc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70F5-AE3D-441A-86CB-E7209FD037D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. 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EC09-8C2F-467F-A572-932400B72E0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. 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00E1-A748-4300-B8F5-495DE9E6394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akie działania należy podejmować, aby nasz kontakt z klientem był jak najbardziej satysfakcjonujący i jak najmniej stresujący dla obu st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7FF1-E984-4F74-8BD6-01C294A271C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akie działania należy podejmować, aby nasz kontakt z klientem był jak najbardziej satysfakcjonujący i jak najmniej stresujący dla obu st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889F-530A-40A4-8B43-D04B9D64804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F0C4-5806-47F7-9A66-3CED6AE1B3F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3E1D-486B-4427-9DE6-9FB6B3A7D60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9561-D45E-4208-9D0E-81A11818356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C0BF-93A6-4404-9B30-33C2651F37C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by organizacja działała ludzie muszą współpracować. Pracownicy mają względem siebie różne potrzeby i różne zobowiązania, angażują się w proces wymiany usług, są dla siebie zarówno klientami jak i usługodawcami. Wzajemne traktowanie siebie jako klientów inspiruje do uświadomienia ogólnych potrzeb organizacyjnych dla poprawy efektywności dział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2F6B7-D3B5-4BE1-8E45-9D5EFB0900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9198A-6344-46D5-8633-96303D0F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DBE36-CCC6-418C-844A-5CED22D6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842ED-CFD4-4F76-A465-468301AA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E56B4-7BC1-440E-92FC-BCDB85C2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596DF-D823-4F71-821F-3BDABDEDD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4B010-79F6-4515-BA71-FC7BA953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F2EE8-3EB9-4BB7-9794-D32F2610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D8682-3DA0-4281-A395-C199F082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EA1A7-ED60-4360-AAF6-1F139194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EF11F-10C4-4831-8CA5-C034EF85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64A07-6F95-481A-814E-1CC8EE9D21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EAA92-5681-4D13-9059-1359311CA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CA5CC-6A2C-4710-92FB-D1E734A3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503F2-6E32-4F12-9687-6CD807CD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BEE2D-C95B-41E1-B163-DE020734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30946-2500-4BBD-BF95-ADCFDD09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88673-FC68-4777-A8F6-0C25A130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B430D-F085-491F-9630-C486A155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C54FF-A2F9-45D8-ACC6-724E42DF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635A2-51F3-4BD5-A515-AFDBCD5C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9AAA8-42C0-4E48-AB50-DD42379B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F2699-3F6A-4BD6-B0D8-2CC7F1FD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E2146-A9B8-4BB2-A24F-CB6A82AC8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DBE217-F2F4-4337-B71B-B27AA216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1A5D0F-E323-42A2-94B4-D833BB4C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43B5F1-E272-47AC-BA58-84E3E102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2B104D-2A1A-40AB-AF71-15DE7A22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E5091C-694D-48B7-B9D2-B79480BD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9FF432-BD8A-442E-AA44-3EEAA131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D275DF-9EAB-4AD5-90F5-6B0674BA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F7822D-2ABD-4FCE-8557-C08E3521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75CEE8-46FA-4A38-AEEB-6FD65E02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17E584-EC3B-41B8-B02F-C0E1128F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55DFAD-99E6-420A-9132-C033D632C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0AB21E-D74E-4681-9A55-7A9855CE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15FE86-F050-452A-A832-6EB2D257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85023F-FF8C-41D7-AF25-0607DA8F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BE3FA4-8E9C-469F-8C58-9310E398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421589-777F-4A37-8AC8-8FD7431C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7D75D4-1680-4A32-AC77-B06965D4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749781-DF6E-47EB-B5AD-E7207A48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1D6B98-3766-43D9-B48E-86BB026F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BC83ED-3C4C-4A17-83CE-5F919C43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97F122-2EB5-4D2C-A604-56D37FB8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32FD96-981F-48DE-8EAF-AD85FE71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45E297-821F-41C5-AB8C-B595727E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3E9859-04C3-4908-9904-FB2B5903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1B3849-5E68-4998-99B1-66F6DF594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5A0093-FFE0-460D-BABA-7C1310E9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4D01D3-C592-4587-ADA2-0A8C6D6A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89F2F5-2899-4B02-9A71-193B2581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791A30-44A4-4CC5-B837-6729C6E1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A5A417-9D6C-4DAB-B785-FA068D2B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6285A3-82CC-4909-AC9F-F9C38F58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3419D9-CAC4-495E-A291-1D635DB3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AA2BC5-D442-4BC1-82B5-D5CE308D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BB8690-BD57-4295-AB71-EE20DC03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B80967-DCCC-43B4-A6F1-BDFDA34F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DFB076-7277-4AD6-9421-1B50D61F2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4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5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6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48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49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rostokąt 10"/>
          <p:cNvSpPr/>
          <p:nvPr/>
        </p:nvSpPr>
        <p:spPr>
          <a:xfrm>
            <a:off x="7380360" y="6237360"/>
            <a:ext cx="1511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94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95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1"/>
          </p:nvPr>
        </p:nvSpPr>
        <p:spPr>
          <a:xfrm>
            <a:off x="446040" y="6230520"/>
            <a:ext cx="1308240" cy="3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2"/>
          </p:nvPr>
        </p:nvSpPr>
        <p:spPr>
          <a:xfrm>
            <a:off x="3919320" y="6490800"/>
            <a:ext cx="1306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4A0E-7027-4281-B4EF-CE5EF95D2BE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142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5"/>
          </p:nvPr>
        </p:nvSpPr>
        <p:spPr>
          <a:xfrm>
            <a:off x="3919320" y="6490800"/>
            <a:ext cx="1306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EBB2-18AB-4862-A7DD-EF98980A1A9B}" type="slidenum"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189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190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8"/>
          </p:nvPr>
        </p:nvSpPr>
        <p:spPr>
          <a:xfrm>
            <a:off x="3919320" y="6490800"/>
            <a:ext cx="1306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F87A-1BF1-4E94-849F-1446F315AD9E}" type="slidenum"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237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238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284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285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A668-8A9E-4867-8F85-8B556F702B84}" type="slidenum"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332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333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5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E4F4-E570-4245-9348-0CBBBB36E4F4}" type="slidenum"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sady profesjonalnej obsługi klienta. Szkolenie dla pracowników Kancelarii Ogólnej Lubuskiego Urzędu Wojewódzkiego w Gorzowie Wielkopolsk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9976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1440" indent="-5414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ominujący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- w myśl zasady „ja tutaj rozdaję karty”, gdzie urzędnik ma ostatnie, decydujące słow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uległy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- w myśl zasady „klient nasz pan i może wszystko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artnerski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- obie strony mają swoje prawa i obowiązki, a zasadą jest „klient nasz partner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25000"/>
              </a:lnSpc>
              <a:spcAft>
                <a:spcPts val="1199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25000"/>
              </a:lnSpc>
              <a:spcAft>
                <a:spcPts val="1199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7EF0-5EFA-40B3-84AF-F3CD9260000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odele relacji urzędnik - k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8360" y="1403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 i sposoby reagow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40D0-E244-4CAD-97AB-422A1BBE2C6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928880"/>
            <a:ext cx="822960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-627120">
              <a:lnSpc>
                <a:spcPct val="125000"/>
              </a:lnSpc>
              <a:spcBef>
                <a:spcPts val="1749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dob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27120" indent="-627120">
              <a:lnSpc>
                <a:spcPct val="125000"/>
              </a:lnSpc>
              <a:spcBef>
                <a:spcPts val="1749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bardzo dob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8A05-895B-4249-B746-CFC31C97006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Typy klientów - filozof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6840" y="1201680"/>
            <a:ext cx="853452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ientów ze względu na cechy znajdujące wyraz w ich zachowaniach można podzielić na określone typ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wrogi, agresywny, wojowniczy i ofensyw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wiecznie niezadowolony, maru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negatywista, scepty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mądr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niezdecydowany, niepewny, wahający się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super zgodny, przyjaciels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Rectangle 5"/>
          <p:cNvSpPr/>
          <p:nvPr/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 wg zachowa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ED03-3602-4AB3-B7EB-1CF714451C0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285920"/>
            <a:ext cx="8229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Wrogi, agresywny, wojowniczy i ofensyw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ujawnia się atakują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jest gwałtow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obraża i zastras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bombarduje bezlitosną krytyk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hołduje zasadzie, że poniżanie innych świadczy o jego własnej s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64D1-0227-44E0-B4E5-4431AEAD903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149976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Wiecznie niezadowolony, maru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wciąż narzeka na wszystko wokó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specjalizuje się w znajdywaniu wad we wszystki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drobiazgow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przekonany o własnym perfekcjonizmie, szuka dziury w pracy in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72F4-DA91-4E09-897C-B34580A0EC8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447920"/>
            <a:ext cx="8229600" cy="42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Negatywista, scepty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podważa i krytyku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uwielbia niweczyć i deprecjonować wszystko co zostało powiedzia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jest zgorzkniały, sceptyczny i sarkastycz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nieuf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EC59-ECBD-4C61-8118-C5EE2A6D014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6840" y="1447920"/>
            <a:ext cx="8534520" cy="42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Mądr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bardzo pewny swoich racji, lubi być w centrum uwag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bywa despotyczny lub przekonywują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traktuje swoich rozmówców jak dzieci, próby dyskusji wydają się być bezcelow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dominuje podczas rozmów, traktując siebie jak eksperta w danej dziedzin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C5F8-3358-4AB3-944B-D0A1A0985A0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7200" y="15714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Niezdecydowany, niepewny, wahający się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ma problemy z wyrażaniem własnych myśli, pragnień i opin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słabo daje sobie radę ze stresem, ociąga się, spóź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ma kłopoty z podejmowaniem decyzji, odkłada je na późni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sądzi, że jego zdanie się nie licz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FE94-0CCB-4549-A217-51741FEC3AB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571760"/>
            <a:ext cx="8229600" cy="42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Super zgodny, przyjaciels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sprawia wrażenie rozsądnego, wierneg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lubi być w centrum uwagi, chce być przyjacielem każdeg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nie zawsze dotrzymuje słowa, potrafi zawieść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dowcipny, konflikty z innymi łagodzi poczuciem humor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85EE-D026-40B0-8D99-2A2EA2C7CD6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awartość prezent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8360" y="1403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45720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stota relacji z klien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45720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 i sposoby reagow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45720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Komunikacja w obsłudze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45720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rudny kl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B90C-8967-4D08-B54D-D98AE719047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3" name=""/>
          <p:cNvGraphicFramePr/>
          <p:nvPr/>
        </p:nvGraphicFramePr>
        <p:xfrm>
          <a:off x="533520" y="1071720"/>
          <a:ext cx="8458200" cy="4728960"/>
        </p:xfrm>
        <a:graphic>
          <a:graphicData uri="http://schemas.openxmlformats.org/drawingml/2006/table">
            <a:tbl>
              <a:tblPr/>
              <a:tblGrid>
                <a:gridCol w="2027160"/>
                <a:gridCol w="6431040"/>
              </a:tblGrid>
              <a:tr h="55404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 klienta ukierunkowany na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jważniejsze zalec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4756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ybkie załatwienie spraw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nuj najszybszą ścieżkę postępowania. Podkreślaj znaczenie działań klienta, które przyspieszą załatwienie spraw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bór możliwoś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dstaw wszystkie możliwe sposoby załatwienia spraw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jaśnij konsekwencje przyjęcia danego sposobu postępowania (np. czas trwania, tryb rozpatrywania, możliwość odwołania się itp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jalne proble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słuchaj obaw kli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prezentuj powiązanie proponowanych czynności z punktu widzenia bezpieczeństwa załatwienia sprawy kli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21896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ny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ługuj się przykładami innych klientów (bez ujawniania danych personalnyc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ywołuj odpowiednie przepisy i procedu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kazuj klientowi miejsca, w których może znaleźć opisy sposobów załatwiania tego typu spra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b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taj o doświadczenia klienta w danej spraw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korzystuj (parafrazuj wypowiedzi klient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wal, jeśli to, co robił w podobnej sprawie poprzednio, było właści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4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E2E7-3E7B-4B7F-9448-16AC0DD67E5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7840" y="456840"/>
            <a:ext cx="80722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aca z klien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68360" y="1403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Komunikacja w obsłudze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AD56-F4E0-427F-87C8-E4FE15EE14F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360" y="3808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to i kiedy jest kliente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50720" indent="-45072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soba mająca potrzeb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450720" indent="-45072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soba spełniająca wymagane kryteria określone praw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450720" indent="-45072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ą możliwości sytuacyj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F2E5-85D5-4BAF-9BBF-E6C56C1A102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ak można wykazać klientowi, że się o niego troszczymy, że jest dla nas ważn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przez kulturę obsługi, która jest ważnym elementem kultury urzę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A79C-7891-4464-AEDE-A4543D9DD5F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510840"/>
            <a:ext cx="777240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leży być dla klient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trzebny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spierający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ympatyczny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 do zastąpie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E22C-1A08-423F-926D-186674BD3A7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achowanie kultural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2952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o zachowanie uwzględniające model świata drugiej oso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zestrzeganie zasad własnej kultury nie gwarantuje nam przychylnej oceny ze strony in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1749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by uzyskać pozytywną ocenę, należy znać zasady kulturowe osób oceniając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9CA9-B107-4A9F-95DB-A1ACCEA67B7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dejście do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68360" y="1447560"/>
            <a:ext cx="844704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rzędnik wykazuje znajomość faktów, możliwości i gdy to możliwe historii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rzędnik jest nastawiony na załatwienie sprawy i satysfakcję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rzędnik używa odpowiednich, dopasowanych do klienta sformułowa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3F67-C9DB-4126-9519-8F5133DEE41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soba obsługująca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066320"/>
            <a:ext cx="8447040" cy="35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mie słucha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bi pozytywne wrażenie, jest komunikatywna, profesjonalna w kontaktach interpersonal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est pogodna i pozytywnie nastawio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est wytrzymała psychicznie, asertyw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harakteryzuje się wysoką kulturą osobist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F5F8-4B7F-4A3F-B1E5-EAF6F8A93A6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Świadome i celowe wywieranie wpływu oraz obrona przed manipulacją jako podstawowa kompetencja  w relacjach z klient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7200" y="23623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szyscy wywieramy wpływ i jesteśmy pod wpływem innych, choć tylko niektórzy i tylko czasami są tego świado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CCF6-C65E-47F5-91A2-162011A32B2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3459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ak rozmawiać z kliente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331640"/>
            <a:ext cx="85345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DKREŚLIĆ (i pamiętać), że jest się reprezentantem urzę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DZIĘKOWAĆ za informacje, które np. pomogą usprawnić nasze dział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EKLAROWAĆ, że po zajmiemy się tą sprawą zgodnie z potrzebą klienta przy zachowaniu wymagań wynikających procedur określonych praw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B64F-5FBB-4380-A9E7-583678785D3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68360" y="1403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stota relacji z klien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7388-4852-4784-8943-DCCF0526619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3459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ak rozmawiać z kliente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255320"/>
            <a:ext cx="86868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1360" indent="-44136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DWOŁYWAĆ SIĘ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33760" indent="-441720">
              <a:lnSpc>
                <a:spcPct val="100000"/>
              </a:lnSpc>
              <a:spcAft>
                <a:spcPts val="601"/>
              </a:spcAft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o zakładanej wiedzy klient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33760" indent="-441720">
              <a:lnSpc>
                <a:spcPct val="100000"/>
              </a:lnSpc>
              <a:spcAft>
                <a:spcPts val="601"/>
              </a:spcAft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o dokumentacj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WIEDZIEĆ to samo w inny sposób, jeśli klient nie rozum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OTOWAĆ niezbędne informacje podawane przez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ÓWIĆ tonem grzecznym, nieprzepraszającym, w którym przebrzmiewa chęć znalezienia rozwiązania zaistniałej sytuacji oraz w którym słychać uśmie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7B7D-5BDD-449A-88D6-8794EB91242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zego nie warto robić w rozmowie z kliente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68360" y="13273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wychodzić poza swoje kompetenc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wychodzić od negatyw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przepraszać bez poznania fakt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pouczać w kwestach innych niż procedura przeprowadzenia spraw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reagować na zaczep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dać się wciągnąć w emoc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spoufalać si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D026-8D19-49B9-B02E-80290923FC8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kuteczne formy językow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123720" y="2057040"/>
            <a:ext cx="3886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ęzyk potrze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ęzyk korzyś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ęzyk perswaz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5105-A0A9-4A89-B0D5-CACAECC3A2D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595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zynności i umiejętności należące do dobrej obsługi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8360" y="15559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ient daje świadectwo dla pracy usługodawcy. Aby sobie zapewnić jego dobrą ocenę, wskazane jest prezentować odpowiednią postawę i wynikające z niej działania w oparciu o konieczne umiejętnośc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46BD-0E67-4598-A77B-3A3288080E9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8360" y="1403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rudny kl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56AC-CDBB-4EFA-97EB-CE817DA8790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iedy klient pozyskuje ocenę trudneg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56840" y="1295280"/>
            <a:ext cx="83818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iedy wyraża potrzeby, których nie możemy zaspokoić, poniewa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ch nie rozumie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 mamy odpowiednich zasob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 mamy odpowiednich kompeten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ą niezgodne z naszym systemem wartości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wynikającymi z niego standarda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6821-9B8C-46C9-8DD3-AB9EACE6D4F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rudności w relacji z klientem zależne są o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11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u klienta i typu urzędnika (niekompatybilność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ofesjonalizmu urzędn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ytuacji w której zjawił się kl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dzajem załatwianej spraw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wydolności procesu komunikacji pomiędzy urzędnikiem a klien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przeczności interesów pomiędzy urzędnikiem a klien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EB94-74E6-42E5-AFBD-DA2F6EA14C5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rudności mogą pojawić się w każdym z trzech obszarów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533160" y="1752480"/>
            <a:ext cx="57150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0720" indent="-4507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dczuć i emo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ntelekt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zekona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ED0C-09E8-41CF-9B64-A8F30F2AE73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8360" y="3808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rudności mogą wynikać z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ktualnego szczególnego obszaru skupienia uwagi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ersonalnych metamodeli postępowania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zbudzonych, społecznie akceptowalnych, norm postępowania u klient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FABB-422F-4150-859A-0AE3C942428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o pomaga w rozpoznaniu powodów, dla których odbieramy klienta jako trudneg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609120" y="1752480"/>
            <a:ext cx="6782040" cy="33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ważna obserwac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ważne słuchan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elowe zadawanie pyta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3753-5F8F-4058-AA49-DDCBD880DE4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23888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stalanie, kto jest klien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143000"/>
            <a:ext cx="8915400" cy="8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2000"/>
          </a:bodyPr>
          <a:p>
            <a:pPr marL="109080" indent="-109080">
              <a:lnSpc>
                <a:spcPct val="90000"/>
              </a:lnSpc>
              <a:spcBef>
                <a:spcPts val="499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lient to ten, kto ma potrzeby, które my możemy zaspokoić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ma zasoby, które mogą zaspokoić nasze potrze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72440" indent="-86040">
              <a:lnSpc>
                <a:spcPct val="125000"/>
              </a:lnSpc>
              <a:spcBef>
                <a:spcPts val="499"/>
              </a:spcBef>
              <a:buClr>
                <a:srgbClr val="c495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akie potrzeby mogą być zaspokojone przez produkty/usługi urzędu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72440" indent="-86040">
              <a:lnSpc>
                <a:spcPct val="125000"/>
              </a:lnSpc>
              <a:spcBef>
                <a:spcPts val="499"/>
              </a:spcBef>
              <a:buClr>
                <a:srgbClr val="c495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to ma takie potrzeb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72440" indent="-86040">
              <a:lnSpc>
                <a:spcPct val="125000"/>
              </a:lnSpc>
              <a:spcBef>
                <a:spcPts val="499"/>
              </a:spcBef>
              <a:buClr>
                <a:srgbClr val="c495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akie są potrzeby urzędu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72440" indent="-86040">
              <a:lnSpc>
                <a:spcPct val="125000"/>
              </a:lnSpc>
              <a:spcBef>
                <a:spcPts val="499"/>
              </a:spcBef>
              <a:buClr>
                <a:srgbClr val="c495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to ma zasoby mogące zaspokoić potrzeby urzędu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080" indent="-109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080" indent="-109080">
              <a:lnSpc>
                <a:spcPct val="90000"/>
              </a:lnSpc>
              <a:spcBef>
                <a:spcPts val="499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4" name="Grupa 20"/>
          <p:cNvGrpSpPr/>
          <p:nvPr/>
        </p:nvGrpSpPr>
        <p:grpSpPr>
          <a:xfrm>
            <a:off x="609480" y="3840120"/>
            <a:ext cx="8282160" cy="1555920"/>
            <a:chOff x="609480" y="3840120"/>
            <a:chExt cx="8282160" cy="1555920"/>
          </a:xfrm>
        </p:grpSpPr>
        <p:sp>
          <p:nvSpPr>
            <p:cNvPr id="395" name="Oval 5"/>
            <p:cNvSpPr/>
            <p:nvPr/>
          </p:nvSpPr>
          <p:spPr>
            <a:xfrm>
              <a:off x="6782040" y="4129560"/>
              <a:ext cx="2109600" cy="9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6"/>
            <p:cNvSpPr/>
            <p:nvPr/>
          </p:nvSpPr>
          <p:spPr>
            <a:xfrm>
              <a:off x="609480" y="3840120"/>
              <a:ext cx="2109600" cy="9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7"/>
            <p:cNvSpPr/>
            <p:nvPr/>
          </p:nvSpPr>
          <p:spPr>
            <a:xfrm>
              <a:off x="609480" y="4434480"/>
              <a:ext cx="2109600" cy="9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8"/>
            <p:cNvSpPr/>
            <p:nvPr/>
          </p:nvSpPr>
          <p:spPr>
            <a:xfrm>
              <a:off x="2793600" y="4308120"/>
              <a:ext cx="582120" cy="582840"/>
            </a:xfrm>
            <a:prstGeom prst="plus">
              <a:avLst>
                <a:gd name="adj" fmla="val 4047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9"/>
            <p:cNvSpPr/>
            <p:nvPr/>
          </p:nvSpPr>
          <p:spPr>
            <a:xfrm>
              <a:off x="5705640" y="4232520"/>
              <a:ext cx="946440" cy="694080"/>
            </a:xfrm>
            <a:custGeom>
              <a:avLst/>
              <a:gdLst>
                <a:gd name="textAreaLeft" fmla="*/ 148680 w 946440"/>
                <a:gd name="textAreaRight" fmla="*/ 828360 w 946440"/>
                <a:gd name="textAreaTop" fmla="*/ 173520 h 694080"/>
                <a:gd name="textAreaBottom" fmla="*/ 520560 h 69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5640" bIns="356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0"/>
            <p:cNvSpPr/>
            <p:nvPr/>
          </p:nvSpPr>
          <p:spPr>
            <a:xfrm>
              <a:off x="7088760" y="4253400"/>
              <a:ext cx="1601640" cy="6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2375"/>
                </a:spcBef>
                <a:tabLst>
                  <a:tab algn="l" pos="0"/>
                  <a:tab algn="l" pos="871560"/>
                  <a:tab algn="l" pos="1743120"/>
                  <a:tab algn="l" pos="2614680"/>
                  <a:tab algn="l" pos="3486240"/>
                  <a:tab algn="l" pos="4357800"/>
                  <a:tab algn="l" pos="5229360"/>
                  <a:tab algn="l" pos="6100920"/>
                  <a:tab algn="l" pos="6972480"/>
                  <a:tab algn="l" pos="7843680"/>
                  <a:tab algn="l" pos="8715240"/>
                  <a:tab algn="l" pos="9586800"/>
                  <a:tab algn="l" pos="10458360"/>
                </a:tabLst>
              </a:pPr>
              <a:r>
                <a:rPr b="0" lang="pl-PL" sz="3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Klient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1"/>
            <p:cNvSpPr/>
            <p:nvPr/>
          </p:nvSpPr>
          <p:spPr>
            <a:xfrm>
              <a:off x="856800" y="3962880"/>
              <a:ext cx="203832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871560"/>
                  <a:tab algn="l" pos="1743120"/>
                  <a:tab algn="l" pos="2614680"/>
                  <a:tab algn="l" pos="3486240"/>
                  <a:tab algn="l" pos="4357800"/>
                  <a:tab algn="l" pos="5229360"/>
                  <a:tab algn="l" pos="6100920"/>
                  <a:tab algn="l" pos="6972480"/>
                  <a:tab algn="l" pos="7843680"/>
                  <a:tab algn="l" pos="8715240"/>
                  <a:tab algn="l" pos="9586800"/>
                  <a:tab algn="l" pos="10458360"/>
                </a:tabLst>
              </a:pPr>
              <a:r>
                <a:rPr b="0" lang="pl-PL" sz="23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asze zasob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2"/>
            <p:cNvSpPr/>
            <p:nvPr/>
          </p:nvSpPr>
          <p:spPr>
            <a:xfrm>
              <a:off x="682200" y="4756680"/>
              <a:ext cx="196704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871560"/>
                  <a:tab algn="l" pos="1743120"/>
                  <a:tab algn="l" pos="2614680"/>
                  <a:tab algn="l" pos="3486240"/>
                  <a:tab algn="l" pos="4357800"/>
                  <a:tab algn="l" pos="5229360"/>
                  <a:tab algn="l" pos="6100920"/>
                  <a:tab algn="l" pos="6972480"/>
                  <a:tab algn="l" pos="7843680"/>
                  <a:tab algn="l" pos="8715240"/>
                  <a:tab algn="l" pos="9586800"/>
                  <a:tab algn="l" pos="10458360"/>
                </a:tabLst>
              </a:pPr>
              <a:r>
                <a:rPr b="0" lang="pl-PL" sz="23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ch potrzeb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3"/>
            <p:cNvSpPr/>
            <p:nvPr/>
          </p:nvSpPr>
          <p:spPr>
            <a:xfrm>
              <a:off x="3521520" y="3840120"/>
              <a:ext cx="2109600" cy="9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"/>
            <p:cNvSpPr/>
            <p:nvPr/>
          </p:nvSpPr>
          <p:spPr>
            <a:xfrm>
              <a:off x="3521520" y="4496040"/>
              <a:ext cx="2111040" cy="9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5"/>
            <p:cNvSpPr/>
            <p:nvPr/>
          </p:nvSpPr>
          <p:spPr>
            <a:xfrm>
              <a:off x="3740040" y="3996000"/>
              <a:ext cx="174708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871560"/>
                  <a:tab algn="l" pos="1743120"/>
                  <a:tab algn="l" pos="2614680"/>
                  <a:tab algn="l" pos="3486240"/>
                  <a:tab algn="l" pos="4357800"/>
                  <a:tab algn="l" pos="5229360"/>
                  <a:tab algn="l" pos="6100920"/>
                  <a:tab algn="l" pos="6972480"/>
                  <a:tab algn="l" pos="7843680"/>
                  <a:tab algn="l" pos="8715240"/>
                  <a:tab algn="l" pos="9586800"/>
                  <a:tab algn="l" pos="10458360"/>
                </a:tabLst>
              </a:pPr>
              <a:r>
                <a:rPr b="0" lang="pl-PL" sz="23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ch zasob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16"/>
            <p:cNvSpPr/>
            <p:nvPr/>
          </p:nvSpPr>
          <p:spPr>
            <a:xfrm>
              <a:off x="3521520" y="4800960"/>
              <a:ext cx="218412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871560"/>
                  <a:tab algn="l" pos="1743120"/>
                  <a:tab algn="l" pos="2614680"/>
                  <a:tab algn="l" pos="3486240"/>
                  <a:tab algn="l" pos="4357800"/>
                  <a:tab algn="l" pos="5229360"/>
                  <a:tab algn="l" pos="6100920"/>
                  <a:tab algn="l" pos="6972480"/>
                  <a:tab algn="l" pos="7843680"/>
                  <a:tab algn="l" pos="8715240"/>
                  <a:tab algn="l" pos="9586800"/>
                  <a:tab algn="l" pos="10458360"/>
                </a:tabLst>
              </a:pPr>
              <a:r>
                <a:rPr b="0" lang="pl-PL" sz="23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asze  potrzeb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8434-D9BF-4FFF-8EF8-D9DC6BA7D52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ak radzić sobie z narastającymi negatywnymi emocjam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6761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7160" indent="-31716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ddzielić siebie od pełnionej funkcji – uświadomić sobie i w pełni przyjąć, ż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9040" indent="-2638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lient mnie nie zna (jako człowieka), więc choćb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tego powodu jego negatywne opinie nie mogą być skierowane do mn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9040" indent="-2638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znaczącej większości przypadków nie jestem przyczyną jego emoc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F116-E099-40B3-8533-9DB1576F300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stawa empatyczna i zasadnie asertywna w radzeniu sobie z trudnym klientem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57200" y="17524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 czym polega postawa empatyczna i zasadna asertywność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sertywne wyznaczanie granic i odmowa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oparciu o znajomość procedur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D60F-8B4D-4BBE-A267-67A612BA606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im jest klie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68360" y="1403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ient to osoba, której potrzeby zaspokajane są przez dostarczone przez urząd produkty/usługi. Koszty dostarczenia produktu/usługi ponosi klient poprzez opłaty. W przypadku świadczeń bezpłatnych ich koszty pokrywane są budżetu (pośrednio przez klientów, którzy jako podatnicy zasilają budżet państw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ient to każdy, z kim wchodzimy w interakcję transakcji wymi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1554-F3FD-4304-92C5-3D42D542F5F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gólnie o relacjach wymi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68360" y="1403280"/>
            <a:ext cx="84470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ażdy proces wymiany ma charakter transakcji polegającej na wymianie wartości (nie tylko materialny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BEB7-F122-47F3-BD0B-2A9E449AC88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oces obsługi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7521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ient jest odbiorcą naszego produktu/usługi, który otrzymuje w procesie nazywanym </a:t>
            </a: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obsługą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A48B-3E29-4DF4-A0D0-E9C99E1AB26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ient zewnętrz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371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stosunku do interesantów urzędu mówimy o kliencie zewnętrznym, który jes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dmiotem działalności urzę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dbiorcą produktów/usług świadczonych zgodnie z ustawowymi zadaniami urzę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źródłem informacji o jego potrzebach i kierunków koniecznych zmian/innow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źródłem opinii kształtujących wizerunek urzę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0600" indent="-21852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10F2-26B0-4B0F-8784-EDF2AD33FCC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ient wewnętrz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447920"/>
            <a:ext cx="8763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aca w urzędzie wymaga współdziałania z innymi pracownikami. W takim przypadku powinniśmy traktować ich również jako klientów, którzy są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artnerem w realizacji celów urzę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źródłem informacji do analizy potrzeb organizacyj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493F-A67F-44B1-9981-E06F1B582B1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ll</dc:creator>
  <dc:description/>
  <dc:language>en-US</dc:language>
  <cp:lastModifiedBy>Dell</cp:lastModifiedBy>
  <dcterms:modified xsi:type="dcterms:W3CDTF">2012-05-04T12:36:54Z</dcterms:modified>
  <cp:revision>7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